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0E5-62DF-4398-80FC-AEEC3646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F28-9C76-4FE6-B0EA-282D43D4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F1B-8774-4225-99A0-7CC0E83E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0A7-9079-4134-B11B-4EBD71C4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A4DD-E245-4BB5-8288-08106F44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376A-61D0-4C9E-A9AC-1DE42624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8E66-9FA4-414C-9D9D-5D34F9C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6533-D2A7-475D-9419-86FD3A5B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6358-60E0-4D5F-B528-315CAB6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34EF-B859-4696-BC02-430D107D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B292-7578-4769-88F7-49122E4A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56B-7159-486E-830B-6723F2B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2277-DFFC-434C-86EC-EC4DF5D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46B0-0429-458D-9D66-682119F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23B4-5675-46ED-8AF5-FE23EF71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68E9-39A4-46D7-BAD2-EC03BF06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2756-F518-4DC0-9B13-3BBD3701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69A-9D0D-4187-A1B8-91CB0D54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78A-F26F-4639-B1FA-97C40EE4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58A-DB95-4AEF-BF1A-03637DF3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4FC-467A-4932-B9D6-60047FFC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F25-3560-4804-9A15-4914A94A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0F5-F6A1-4342-9EA9-69F2CCB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2F3-85A3-4002-B4A2-7FEAB8C8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1AF0-7583-4C9D-9FCA-66BEB74D9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F508-DF27-438C-B703-9CA4D93DB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Connie Campbell</cp:lastModifiedBy>
  <dcterms:modified xsi:type="dcterms:W3CDTF">2002-05-31T21:44:21Z</dcterms:modified>
  <cp:revision>14</cp:revision>
  <dc:subject/>
  <dc:title>Jeopardy</dc:title>
</cp:coreProperties>
</file>